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4012E-5F43-43C4-988B-F0BA2A3343A5}"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F212E-BD79-4DA5-B68E-8FE64A301EB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A46DD-EAA9-4416-91BE-86306C8B2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EC53E-5FDA-45A2-9071-50020EDD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17B81-B0CD-4B24-AFBA-E151BDD24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A3B78-6E21-4112-88B8-5420A2FC42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7966A-BFEE-480F-8403-9BFCB3998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49133B-DEDC-428F-9F31-64FB3F64F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D7B09-0665-46FE-A801-CF87D1A0E6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26D8A-7013-4F7C-A4B0-F6BFDD5E2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F74B0-2254-4BB9-BD7F-22E37D191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2E925-D495-438B-87AF-0C6F751043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34ACE-0E42-4DBA-B617-938FBE3A46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64A782-FD05-4DAA-9FF1-45A50B6B6F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5A1885-A85E-4F7D-9294-E8F483029A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CE49C-0FE5-4300-879C-8CFFB7E74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9D3FF6-4F1E-4D1D-B369-C13B61E1F5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6A23CA-20E2-4D18-8E21-9A1D319FB9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2D5E24-D688-4BAB-BEAE-3EC9634A2F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3B7B2B-01D3-4FB7-B34B-4C8F1E4FE2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FAC40E-D717-4074-A913-122FE29A0F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2A11FE-F456-40AF-86FA-38D20742C3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FB6393-44EE-4B9F-B210-F5D669214A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0D456C-DFA5-449B-837D-EFDC216AA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76D6AA-EDF0-4F67-AEF3-8AB47615CE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81C4EB-2B19-4EF0-AAE3-89D47837ED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C41FE-C213-4A32-96BE-7A2904E92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DC9708-8DB4-4FDA-A4DB-C993D868DC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56E79A-BBAA-4B5A-8D10-7526361941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EDB678-19FE-4D7E-8574-A4B48E70E9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A49A75-450E-4B50-ACF2-6F5758A6C3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1663F-59CB-4FEA-B86D-D39CBD61BE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4579EF-B39D-4CE8-9813-46F9624D0B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B1F072-EEF5-4D8F-ABF2-FB918D8728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72F847-9251-4621-9A60-2D08CE338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4CE058-A435-49D3-8287-A0BF484114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AB26A5-5175-4B89-9382-2134E799F4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7676E00-B0C9-4A61-B519-1F271E92A9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476C95-9561-4259-AD8F-12B8BAB61C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5424EA-A92C-4A56-AD6A-7E9F602F0F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75D2E8-D748-488F-AE90-7101464254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B68A69-FB9D-4652-BA22-C39C60F5B5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1E2730-1AB9-4C4F-B17F-BD7D816B91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454E19-26DA-4566-B2C1-FFF8C4AD8A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1A3961-F97B-42F1-ABC5-36DFA197F6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A2153C-D4AB-4C30-A585-44A33EB14B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5B68CD-9FB8-4E06-9EF5-CD2B446A14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95A50C-5956-452C-931A-5FDB68DA3B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7886189-6323-4181-9113-87046FD361F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D157BD-539E-49C8-BC4A-5DE1E0B8A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A04BC6-08DA-4A2A-9E2D-2B126DB06F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863294-AAC7-47BD-94BC-EEE1ED2A3E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913E91-E62A-423A-8F9A-AC556922BB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4E5CFC-51FF-4D5D-AF3C-5CCAFE1465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2F3932-DEF2-458A-9870-ADF0FE2EF1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DBB526-E854-42A0-9C86-A2FF2FF278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162882-13D7-4C3E-848B-9F9E6C57E1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C18B00-66A8-4AA5-AB38-5DE8A8D254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59CC0B-D68A-4219-B24F-20D501230D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3A4F614-6B76-4EBA-AC69-AAAE794F97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71E8F3-BCA7-451D-8513-6F509D7D9D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29B192-1B21-4228-8AC7-B0FC44BB4E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E8FCD1-5D95-4337-B5F8-7C9C484ECC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E78EEF-7909-4DA1-913D-FFE2DCE97F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E8DE27-E745-4660-AD21-353C3690A5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5AB0BA-5B70-421F-86C9-EFCAF27B1A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4B83C2-B9B2-4F1A-8BD5-4F583303CD6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246C58-35B2-4C7A-BC75-433401A26E8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1D1033-9553-428E-B681-3D7FB9D9B3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64AF10-3689-47B6-8F0C-7D1B0071E0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2939F9D-3B6B-4097-9F59-AD6A6CB205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9FB188-1428-4E40-B0A1-B6C128E854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80ACCF-3AB3-4D20-830C-24C99F58E5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CA1CE5-3C02-428D-8B82-79274CDA73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5E2E86-B4EA-451A-9315-8121C3917E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0A1FD7-1D3D-47C4-ACE3-E7DE67515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973C23-5617-45AA-8075-FF8F5BFF2E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C15C8E-27B6-49E8-9975-42D4B287FA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9F6E82-D8EE-4596-8A1C-B4DA80E214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EB4E21-1F9E-4CCE-8E61-84377EDD46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D494BA3-2063-40BF-802D-8611295B360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79B4225-5D74-4A4B-85F5-EE9A8E7637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1BEEA4-EFB0-4DA8-AE3F-82ED1A357A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D57D9E-D57D-4580-8AEF-01D488A0CC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6C545B-1E17-4B12-A6A6-24E7730AA2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7631EA-A387-4D27-A42A-F152D598DC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C60407-76B5-4262-829C-39D5CDFBD4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F177A8-AED0-44D8-BD62-685BB6B08A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E999FB-C1BB-4BE6-8D75-FA51A50976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FAB47F-5969-4FDC-A98C-8495EB7982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C7388F-5C05-4986-B5E2-8BA8823B35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4C1227-E47E-4CF7-9AF4-81DA6C7AB05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128B05E-05D9-44F8-BDCE-44C13B821F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9B0CC6-86B9-4325-9C29-FB10457AF1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E9C15B-AEF2-4567-A3F6-243114BD5E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6C1BC5-53F0-4F10-8217-38EEA46FD4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12D092-D4A0-462C-85DE-C1518A7D16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B27D1B-1838-4587-8E81-2D56029DDE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AF2221-69BF-4FE7-8618-0C435EA7CF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673197-FB0E-4B05-BBD4-A605E63C80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6C7293-BDED-458E-AC36-DAF0D6E5E9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83D249-94A5-408E-A398-6F7469065A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D487B3-1748-4839-A27A-9AACF6A81B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2E65E45-2673-45F4-9131-95D354DC7E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D0B8F4-BF83-48FE-8F94-85C2CC0D4A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22D6286-3701-422E-97B8-4080FEB5DEF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677B485-6104-4D4F-B276-DE98404A29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4DB1BD9-676A-479E-AC7A-1F30281FD2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569B14-204A-4413-AB3D-40ED9608539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545568-A4FD-4051-881B-DF3E7D168E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567D50-FA64-4A0C-A963-5874EDF306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77830F-65FC-4B10-A8E2-4BE0FB4CEB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697EA6-6117-4C69-92CD-435D26C31D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8C141A-2B85-4AE5-ACBB-C50956CCA5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5529-6B96-49BF-AAC4-DA85635F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EF729AC-466A-4868-9D1C-9EFC3E04FF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ECDBB5-3E08-4779-BF2C-2DA1451585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C4AC74-BC49-4525-98A0-D407887B7C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99E3B8-1D90-40D5-856F-C52F97CC7D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5C79868-8AFA-4B73-915D-490EE08471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5CC09F8-780B-4F3E-ADCA-E455913CB64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67E0C72-C513-4D66-B333-792A943597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229D5C2-DA66-452D-9844-9A7988636B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997B1700-21B3-4F2E-8B09-AE779F99E4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AE2F25EF-3151-4248-9155-29F46DB68E7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EB440-9EC6-4CE5-82F5-338B04606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D7B36-4094-42CA-829F-34B284BB1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BBD94-F846-452D-B659-0016D3BD4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2D8AC-1469-4D0A-AAD5-F06C0DD29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22F17-87BB-492D-B8CE-2BD2C40A8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18EF-3A76-418C-9E67-D002894F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8C820-0085-476F-AA2A-809A93E29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2124C-CC24-40D8-8928-805ADD6DB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FFFDD-B67A-466F-A51E-35FC2D180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59821-C25F-4415-B5FF-F680B5903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C358D-4D8E-4AD2-B8E6-E97A7C71A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F37AC0-C071-4F22-ACED-2D74FF7537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8D4D0-0486-48C4-B156-186DA4E8D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24AB6-FD9C-46C0-B2F7-37A66A44E0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60CF3-5B57-45A2-B013-CF090518B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64819-6801-44B8-851A-52C70C1B4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E2ED1-9429-45DA-8B91-6A586A60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B16CF-8D53-4B5F-9134-634D4BDAC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7B9C9-F4B7-45DF-BB37-2070AABE4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6B009-86D9-47F0-9EFB-5C13B6578D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283AC-3CA2-4583-B0C0-12F406008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12772-9632-4889-AB16-2885DA86C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60DA4-783E-448D-93C2-1F8FF5DB6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2A358-528D-4C91-942C-FAC4D710A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547F77-A890-435C-8E5F-4E7952935E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1D743-214A-4063-89D6-6C5514897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E39FB-6BDA-4419-8B37-6BDF11F31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C89E8-BAC7-4AF8-9E40-45B25FA7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192E3-0314-40B2-AD4B-3781619DC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0CF21-BFB9-4876-9563-FE2D81D2F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20B3B1-A536-45EE-AEAD-F674BF0BE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8B342-2759-4DAF-948D-9E6A420F8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01F2A-E4FF-4587-AB66-0F62DD97E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A040A-2A32-49FB-871F-0135C0BED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C1154-367F-4E00-BEDE-EF822F2CC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D95E0-D29D-4AD8-8E3E-C593BC31D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82823-4137-4747-B06A-51C33D571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A29F2B-12F7-479F-8AC4-0743DED464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99D35-6DB6-4B83-9FD0-F0AF39DC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9E59E-73F9-482C-B842-4B172B104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8D8B05-D666-42FA-ABB6-E77B1BA75C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F1D70-F5C3-4DAD-876A-1304964998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02030B-5AE8-4AA1-8A4C-038C91455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651AB-1C0A-4C45-BF10-B1B0B25A6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D5ED49-5E65-4B56-988D-D38C40F86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CC109-E3A5-412E-9BD1-107B9C3853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3F1AB-6E21-4540-88E6-DC1DCF8BB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44F82-6484-41A8-A884-B400EAD52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FF851-07C4-41D7-84ED-A3CEE9E25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FCA5-3E60-4B79-989E-49EA4008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3C468-A041-473F-9595-B3EFBC4F6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CBD3F0-28F0-493E-A23D-3CF7B4C106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25E877-81B2-4B15-9EC1-E7B6584C56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A9E2D5-CEAE-463A-B253-FEDF9584D3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82B92-049B-4E53-B81C-229DF45CE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308448-D87E-4BB8-B602-C7E1A9A0E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DCE302-F7B2-4DDF-9112-7C3FAA730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1FB0CB-D628-4DAC-9AEA-F92522169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6ECAC-3ED4-4F8C-A9D5-DDA7DB5AC9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73B39-F6F6-4169-8FCB-211DC1D4D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5F9F-9317-45B7-89AD-ADF53ADD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BA47C-7CBA-4296-927E-FD1C525FC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80105-FEBF-4602-B890-C8400814F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5C049-C712-4546-BD24-7F8FDE8C0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D92A93-5E2C-429B-9412-2F1A246CC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92A673-EE44-4AE9-8431-7945352DD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7B8A8E-4514-453A-92A3-6E6FC3F632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BA23F-035E-44EA-9FF1-B85AD4248A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5D39D-CB5C-4A04-91AA-7F33BE2A3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4B9AC6-4044-46CC-B780-F47DAF06D8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6496CF-804D-45FF-9DF2-998F3D56C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CD08-75CB-4CDD-BB2D-FD1DED8B2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5AF70-6CC0-4CE6-B0CD-29185AD562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2E911-B138-4DDF-850D-4F356289E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D171B-0547-4F19-88DA-CE7B372FC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B51D1-2D95-4ACE-BD67-849305DD9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EC1A7-2937-47EE-BB6E-3E8C056BE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5E996E-A7ED-4F3E-B90B-3C55AF1A84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47BDEB-E495-4004-A931-84044F6D83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DD8155-CBA8-4DAB-A964-5DFBA68CFA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F309C-6657-4C2A-8F4E-49ACAC195D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7A673-E55E-47D9-830E-16AE1B6B6F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BA463-7224-4FF1-AB30-3B56DB142E2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DC8A6-24E4-47E8-A2AA-3B67BF5587D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ED49A-CD50-4768-AA64-B646338E24AF}"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E44EF-7A13-4EA2-9655-1401A9DC966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8D54B-71C6-44E1-B664-25996BD1551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CD2B9-F5B0-449C-AEAF-10D88CF2294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5E038-65C5-4C60-A007-64CC1FA9A92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FF15D-9CE9-4BEA-8A16-DB71F4E629D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D1AD4-FBC9-4BD1-9E63-03D08B946E8F}"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4DD75-89BA-422D-89A0-C6DF3137550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46E22-BFFA-4BDF-BE94-553F4D3D83D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36F59-E957-466D-B432-F1B7DF7120C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3C2EB-8D90-4176-A4C3-0AA1900044A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C4A10-4422-4DFF-96A1-7F356712DB3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DE1F0-1940-4015-9738-5846D9D2CB0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76BF2-0C01-4B7D-B66E-9198E6239A3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A17D3-7A48-4D93-97B0-B19B06BE2E4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EB510-F5CA-465A-915F-2990B7247EA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19BD8-1AF4-44F0-A850-52BCB0C25DE9}"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0909C-2540-44E6-BA20-4151BCDBB326}"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BE240-755C-4B64-9234-A4524D9EE385}"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63881-38A1-426F-B357-75999856573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6963D-8B19-4F1E-8ED1-6E9E937C328C}"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653AF-5DBA-4728-A459-E039E0BA6B97}"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3FC1A-6288-4A7A-B603-DB1D5FA57327}"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03847-699E-4111-8D40-E907D7D117B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DCFF5-7678-4065-9349-B93E09492F31}"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DC81A-0E0F-434D-A790-465EE815F115}"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6E6AE-73AB-452E-A83B-9024E82AD86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75F15-4C72-472C-8741-06B69F54FD7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6D56C-0699-446D-A1F5-ACD287A0244F}"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4BB71-9549-465D-88EA-AB7CCFD4DDC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592E1-FA64-4EF7-AFC9-6F0F1C4A6E2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B8D4B-4E24-427B-8966-E0621C06573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ping crime, and they will make technology that can hear sounds of gunfire and set hotspots that can stop murder. They are working to stop all murder to the best of their ability.</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have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Whether you do believe or not, police officers and Ceasefire are working on stopping crime and they are never giving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n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23652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604440" y="294840"/>
            <a:ext cx="7583400" cy="604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6.Police like to tell that trusted people in the  community who know this gang to convince felons to put down gun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a:spcBef>
                <a:spcPts val="11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10. Because Oakland has not had police academies since 2008, police force has declined and they are using retirement rates to save money.</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9:41:41Z</dcterms:created>
  <dc:creator>admin</dc:creator>
  <dc:description/>
  <dc:language>en-US</dc:language>
  <cp:lastModifiedBy>admin</cp:lastModifiedBy>
  <dcterms:modified xsi:type="dcterms:W3CDTF">2011-10-11T12:50:12Z</dcterms:modified>
  <cp:revision>6</cp:revision>
  <dc:subject/>
  <dc:title>Crime Investigation</dc:title>
</cp:coreProperties>
</file>